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EA1-9555-46A2-BD05-7A3C4D0F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F3C-A533-40E8-927E-836F4AEF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67E-1CEE-45B7-8A97-259290ED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36D-CFC8-429D-90D0-1AA3F65D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6D3-B4F8-4287-8548-6FCAE71D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4CA-D30D-4E6C-9C92-42ED94DB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697-846D-4BF5-B1B3-92BA8458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665-13EC-44F5-A977-389B19E8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8B5-4EE6-476E-9EBD-EA94D53E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46A-F8FA-4332-835A-60925E90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615-C978-4EDC-9653-584E2E3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E3E-5FE0-41B5-BC52-89D85C0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056D-4A80-4F98-AD37-6095C8435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334120"/>
            <a:ext cx="853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1371600"/>
            <a:ext cx="8458200" cy="4010040"/>
            <a:chOff x="380880" y="1371600"/>
            <a:chExt cx="8458200" cy="40100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38200" y="1647720"/>
              <a:ext cx="8042400" cy="35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80880" y="4836960"/>
              <a:ext cx="845820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0880" y="1371600"/>
              <a:ext cx="830592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-619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21720" y="1386000"/>
            <a:ext cx="8293680" cy="3948120"/>
            <a:chOff x="621720" y="1386000"/>
            <a:chExt cx="8293680" cy="3948120"/>
          </a:xfrm>
        </p:grpSpPr>
        <p:grpSp>
          <p:nvGrpSpPr>
            <p:cNvPr id="48" name=""/>
            <p:cNvGrpSpPr/>
            <p:nvPr/>
          </p:nvGrpSpPr>
          <p:grpSpPr>
            <a:xfrm>
              <a:off x="685800" y="1676520"/>
              <a:ext cx="8229600" cy="3657600"/>
              <a:chOff x="685800" y="1676520"/>
              <a:chExt cx="8229600" cy="3657600"/>
            </a:xfrm>
          </p:grpSpPr>
          <p:pic>
            <p:nvPicPr>
              <p:cNvPr id="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1676520"/>
                <a:ext cx="7924680" cy="35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685800" y="4800600"/>
                <a:ext cx="822960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21720" y="1386000"/>
              <a:ext cx="807192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57200" y="504360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9672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28600" y="1157400"/>
            <a:ext cx="8686800" cy="4328640"/>
            <a:chOff x="228600" y="1157400"/>
            <a:chExt cx="8686800" cy="4328640"/>
          </a:xfrm>
        </p:grpSpPr>
        <p:grpSp>
          <p:nvGrpSpPr>
            <p:cNvPr id="55" name=""/>
            <p:cNvGrpSpPr/>
            <p:nvPr/>
          </p:nvGrpSpPr>
          <p:grpSpPr>
            <a:xfrm>
              <a:off x="304920" y="1447920"/>
              <a:ext cx="8458200" cy="4038120"/>
              <a:chOff x="304920" y="1447920"/>
              <a:chExt cx="8458200" cy="403812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520" y="1447920"/>
                <a:ext cx="8306640" cy="36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304920" y="4738320"/>
                <a:ext cx="8458200" cy="74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28600" y="1157400"/>
              <a:ext cx="86868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233360"/>
            <a:ext cx="8534520" cy="4100760"/>
            <a:chOff x="380880" y="1233360"/>
            <a:chExt cx="8534520" cy="4100760"/>
          </a:xfrm>
        </p:grpSpPr>
        <p:grpSp>
          <p:nvGrpSpPr>
            <p:cNvPr id="60" name=""/>
            <p:cNvGrpSpPr/>
            <p:nvPr/>
          </p:nvGrpSpPr>
          <p:grpSpPr>
            <a:xfrm>
              <a:off x="380880" y="1523880"/>
              <a:ext cx="8534520" cy="3810240"/>
              <a:chOff x="380880" y="1523880"/>
              <a:chExt cx="8534520" cy="3810240"/>
            </a:xfrm>
          </p:grpSpPr>
          <p:pic>
            <p:nvPicPr>
              <p:cNvPr id="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523880"/>
                <a:ext cx="8305920" cy="37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380880" y="4800600"/>
                <a:ext cx="85345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380880" y="1233360"/>
              <a:ext cx="853452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533520" y="1147680"/>
            <a:ext cx="8229600" cy="4033800"/>
            <a:chOff x="533520" y="1147680"/>
            <a:chExt cx="8229600" cy="4033800"/>
          </a:xfrm>
        </p:grpSpPr>
        <p:grpSp>
          <p:nvGrpSpPr>
            <p:cNvPr id="65" name=""/>
            <p:cNvGrpSpPr/>
            <p:nvPr/>
          </p:nvGrpSpPr>
          <p:grpSpPr>
            <a:xfrm>
              <a:off x="533520" y="1479600"/>
              <a:ext cx="8229600" cy="3701880"/>
              <a:chOff x="533520" y="1479600"/>
              <a:chExt cx="8229600" cy="370188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479600"/>
                <a:ext cx="8077320" cy="36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33520" y="4647960"/>
                <a:ext cx="822960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97960" y="1147680"/>
              <a:ext cx="80719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12 різниці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~~~~~~~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1:30:12Z</dcterms:created>
  <dc:creator>ChristaK</dc:creator>
  <dc:description/>
  <dc:language>en-US</dc:language>
  <cp:lastModifiedBy>ChristaK</cp:lastModifiedBy>
  <dcterms:modified xsi:type="dcterms:W3CDTF">2010-03-24T01:53:04Z</dcterms:modified>
  <cp:revision>3</cp:revision>
  <dc:subject/>
  <dc:title>Slide 1</dc:title>
</cp:coreProperties>
</file>