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C9CB-D9EF-4557-A679-9496BEC93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F662-4FA3-4F1B-B1BD-A0D9A1BF0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855A-7291-4DF3-B585-BEF6A1A8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A50E-CFD5-4748-8796-0300AA4D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57DD-07C3-4BFD-A953-EE0B7DC6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D3DF-219C-4939-B6CA-BE05664F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ADA2-4A0F-4780-9F9C-ED485E6A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AE30-DB4F-48BA-B853-FD591566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4E11-E0B9-4427-8B22-AA7491FF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7962-B921-4925-8194-922C1B45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78A2-2A37-4A65-9817-186B6EAE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DD90-209F-4C84-A9BB-A13ED00B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2CC3-E089-49EF-9368-2E98FD05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9A40-F338-4989-B53A-98779128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C6AA-E26B-4D41-B46D-C4452F0C7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calvarywilliamsport.com/images/More_Than_Conquerors.gif"/>
          <p:cNvPicPr/>
          <p:nvPr/>
        </p:nvPicPr>
        <p:blipFill>
          <a:blip r:embed="rId1"/>
          <a:stretch/>
        </p:blipFill>
        <p:spPr>
          <a:xfrm>
            <a:off x="1295280" y="0"/>
            <a:ext cx="6705720" cy="6926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1145160" y="152280"/>
            <a:ext cx="782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почато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5491080" y="6324480"/>
            <a:ext cx="596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інец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21:46:09Z</dcterms:created>
  <dc:creator>christak</dc:creator>
  <dc:description/>
  <dc:language>en-US</dc:language>
  <cp:lastModifiedBy>christak</cp:lastModifiedBy>
  <dcterms:modified xsi:type="dcterms:W3CDTF">2012-05-15T21:48:52Z</dcterms:modified>
  <cp:revision>1</cp:revision>
  <dc:subject/>
  <dc:title>Slide 1</dc:title>
</cp:coreProperties>
</file>