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CA5-B70A-4D5C-915C-0536570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5B6-FF82-4871-A772-14A89EC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812-0DAE-43FE-B7E1-D3C575B2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EFE-71DF-4BF3-9DC1-2582863D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6CE-A8AF-47B3-A63F-66A8499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2E5-AD7C-49FE-86E4-4A59656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BCB-2FF5-48F7-BB21-7A26A079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98E-4810-4943-9F6D-87C01CF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9B0-A43D-448B-8FB7-2E91ECE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658-BA3A-4B95-923E-62E4541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4FB-7B65-486A-A622-9B652A8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8F0-EA22-4E45-8E4D-1638818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448-F611-4C28-87F5-5E8BB8C4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34290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19320" y="380880"/>
            <a:ext cx="6552720" cy="6095880"/>
            <a:chOff x="1219320" y="380880"/>
            <a:chExt cx="6552720" cy="6095880"/>
          </a:xfrm>
        </p:grpSpPr>
        <p:grpSp>
          <p:nvGrpSpPr>
            <p:cNvPr id="43" name=""/>
            <p:cNvGrpSpPr/>
            <p:nvPr/>
          </p:nvGrpSpPr>
          <p:grpSpPr>
            <a:xfrm>
              <a:off x="1219320" y="380880"/>
              <a:ext cx="6552720" cy="6095880"/>
              <a:chOff x="1219320" y="380880"/>
              <a:chExt cx="6552720" cy="60958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7000" y="380880"/>
                <a:ext cx="6395040" cy="60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 rot="16200000">
                <a:off x="4615560" y="3205800"/>
                <a:ext cx="549360" cy="710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219320" y="3286440"/>
                <a:ext cx="710280" cy="39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4572000" y="370836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поча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2680" y="332748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кінец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05:25Z</dcterms:created>
  <dc:creator>ChristaK</dc:creator>
  <dc:description/>
  <dc:language>en-US</dc:language>
  <cp:lastModifiedBy>ChristaK</cp:lastModifiedBy>
  <dcterms:modified xsi:type="dcterms:W3CDTF">2010-04-07T00:14:15Z</dcterms:modified>
  <cp:revision>3</cp:revision>
  <dc:subject/>
  <dc:title>Slide 1</dc:title>
</cp:coreProperties>
</file>