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C34E-7530-4868-99D3-3479B17A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7727-3B5C-48F7-A4F1-6DCC5E5C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732-ABA9-4946-A4AC-159E624E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C0E-F6B2-473C-817D-08F127CC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DB6-4410-4BBD-9773-7BEB2DCB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E648-E51E-4B4D-B52D-18A5234C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6296-079E-4775-B622-B733182C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0FE9-92D2-40E8-96AE-01798E83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F328-0ACB-4B26-83D5-A1BDF7E8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4398-017E-4CDD-99EA-54EBE830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1EFB-3718-43BD-AB68-2640E26D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6795-C3B5-470E-8351-39B145E8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EF6F-928E-43EC-81ED-4BC59D705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6707160" cy="8763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457200" y="0"/>
            <a:ext cx="7848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304920" y="8001000"/>
            <a:ext cx="7467840" cy="128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маранчеве     2 = філятове     3 = рожеве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 = сине      5 = червоне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 = зелене     7 = жовте     8 = бронз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76520" y="5715000"/>
            <a:ext cx="3504960" cy="2209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676520" y="1295280"/>
            <a:ext cx="35049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4:13:27Z</dcterms:created>
  <dc:creator>ChristaK</dc:creator>
  <dc:description/>
  <dc:language>en-US</dc:language>
  <cp:lastModifiedBy>ChristaK</cp:lastModifiedBy>
  <dcterms:modified xsi:type="dcterms:W3CDTF">2010-04-07T00:36:09Z</dcterms:modified>
  <cp:revision>7</cp:revision>
  <dc:subject/>
  <dc:title>Slide 1</dc:title>
</cp:coreProperties>
</file>