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9C85-1FC2-4040-B955-6D12189D4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977-1FDF-492B-B350-E972C80D0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1AF-062B-4D10-9E45-8A8D8C9D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DA4-4555-4D13-9147-2CCA2A2D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290-8912-4DAB-B5B1-634E0726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373-848C-4A5D-BE8C-34F8C578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ABF-F9A5-4C8B-9E1E-70D5882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6CD-451E-4C5F-B5A0-9D2CBC83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520-CD3C-4014-A3B1-E7E04EA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CA9-D99D-48E7-8D07-50D708AE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1CE-FC54-487F-9471-24324867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291-756D-41FC-ABEB-0D521333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EC4-0E7C-4B0E-85E9-F519878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892-D201-4D95-94AE-FF9FAB0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5BC-5F7F-4331-A9C7-19680752A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llkidsnetwork.com/mazes/images/maze-spider-web.jpg"/>
          <p:cNvPicPr/>
          <p:nvPr/>
        </p:nvPicPr>
        <p:blipFill>
          <a:blip r:embed="rId1"/>
          <a:stretch/>
        </p:blipFill>
        <p:spPr>
          <a:xfrm>
            <a:off x="76320" y="228600"/>
            <a:ext cx="6705360" cy="8508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255000" y="82440"/>
            <a:ext cx="393480" cy="32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можи павукові знайти дорогу додому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21:40:22Z</dcterms:created>
  <dc:creator>christak</dc:creator>
  <dc:description/>
  <dc:language>en-US</dc:language>
  <cp:lastModifiedBy>christak</cp:lastModifiedBy>
  <dcterms:modified xsi:type="dcterms:W3CDTF">2012-05-15T21:44:45Z</dcterms:modified>
  <cp:revision>1</cp:revision>
  <dc:subject/>
  <dc:title>Slide 1</dc:title>
</cp:coreProperties>
</file>